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8EA11-8110-4613-9156-BBF4AE53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8334D-50E3-4AA3-8C91-C01ADE4A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C056-F6C9-458A-96A6-11D6ED51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DBBD1-B282-409D-95C6-A4C50A40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52CD-D99C-47AA-9167-E6E7CDA1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1919-D277-44E8-8110-7D81BA60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2CF7-9A70-4404-9481-00C7CB7F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9DC9-788F-4EFD-827A-5EE6D7B7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58C8-54FA-488F-B827-E33F6D90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44D8-A55E-45C1-A48D-A439EAF5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9C8D-BA3D-43B7-8BC5-A9569CE0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AF0A-9331-4BE8-B030-4CBDB8DF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45E0-4E78-4824-B4B0-3C41610C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2379-989A-407A-BD15-571525E7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D8D2-719E-471A-A9FD-7243E737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E6C8-C99A-46B7-9180-3962C51B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B7EF-02B6-488B-83BE-63BF080E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02403-2D0E-487A-9C8F-11B72368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53382-B3D5-4D7D-99FA-34975E5E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8AE76-2BE6-48F3-B2EC-6EE5C808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49670-8D04-45A1-A203-69975BC1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1743A-43EC-4039-ADE1-C8AFB031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A4EDA-07C9-41CC-9CD3-A63FC73F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25428-AA7D-430E-92B5-2E1396F2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E839-B293-406F-B396-6B7C0FBB8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6C91-46DF-4827-B69B-171ABE659C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oftware Design and SQ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cture # 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50CF-07A7-47CF-BDC7-2FD66F19C38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designers use a mostly breadth-first approach because it allows them to mentally simulate the execution of an evolving system to detect unwanted interaction, inconsistencies, weaknesses, and incompleteness of their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7FCCD-78A3-4D86-90DF-76A757AA64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design is driven by known solutions, which increases performance by allowing a user to dynamically shift goals and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19B0C-C7D9-4BFA-9FD9-8290AE7206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designers structure problem formulations by discovering missing information, such as problem goals and evaluation criteria, and resolving many open-end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 the challenge of design necessitates the use of a methodical approach based on key principles and practices to effectively and efficiently produce high quality software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49FA5-9730-452F-B731-3814BE1FB2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designers must occasionally deviate from a defined method in response to newly acquired information of ins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EEED4-8411-4D99-8F31-665602E2B1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design principles identify strategic approaches to the production of quality software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design practices identify tactical methods for producing quality software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design procedures provide an organizational framework for designing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4C5BB-F5F6-4EB0-894D-86AC4BC0D8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Important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associate quality attributes with every aspect of softwar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1E693-CADF-4E9A-8471-20CD8C4C0D9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and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is the place where quality is fostered in software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provides us with representation of software which can be assessed for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is the only way that we can accurately translate a customer’s requirements into a finished software product o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9B415-D97C-4537-BFEF-FD8A7CC3C41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out Softwar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risk building an unstabl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at will fail when small changes ar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at may be difficult to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whose quality cannot be assessed until late in the softwar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at will be of no or very little use for similar projects (not reus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15649-10DE-4B30-BCEC-8098832A326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Design Process and Model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ftware design is both a process and a mod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AAAB-6CBB-4EB6-9D25-E67E85F634B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sequence of steps that enables a designer to describe all aspects of the software to be b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design process, the quality of the evolving design is assessed with a series of formal technical reviews or design walkthroug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creative skills, past experience, sense of what makes “good” software, and an overall commitment to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0D793-BB53-414E-BC54-B6786BC20C1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equirements and software quality as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1068-63CB-4F0A-98D1-85782D7E40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to an architect’s plan for a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s the totality of the thing to be bu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 variety of different views of the computer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BF4FF-FF90-4625-AC8B-40AA736D8D0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Design Defect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763A-AA8A-419D-B418-42D879E0AB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fec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cts introduced during preliminary design phase are usually not discovered until integration testing, which is too late in most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cts introduced during detailed design phase are usually discovered during unit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D42D3-3A9A-4EE6-A936-45D11673645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fec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our categories of defects are found in desig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 of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 of o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 of clarity and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 of speed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E2992-61F1-4FD4-87B8-F8F4587F836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fec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defects are errors of omission, followed by errors of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s of clarity and ambiguity are also common, and many performance related problems originate in design process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AA82C-669D-4578-A94D-9723C04CA3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fec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design ranks next to requirements as a source of very troublesome and expensive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bination of defect prevention and defect removal is needed for dealing with design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070F5-0B2B-45D9-B62A-D4F0EE82FE8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fects -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design inspections are one of the most powerful and successful software quality approaches of al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rofessionals should incorporate inspections in their software develop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FF4BC-385D-45F7-9FB7-BB73B4486C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ollowing slide to be inserted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fects in Fundamental Design Top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7D72-2FAA-4DED-BA02-B2219D95D8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ects in Fundamental Design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installation, invocation, control, and 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of th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s or concurrency of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54772-647E-4A95-91E8-BF6DED7C7E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Perfo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s in descriptions of functions the application will perform, are often errors of o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omitted functions are those which, are implied functions, rather than the explicitly demanded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A2D75-1936-4E01-BAA9-013529D424B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design model an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design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848B2-45DA-41FE-932B-EA30D99D8B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 Installation, Invocation, Control, and Ter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cts in information on how t start-up a feature, control its behavior, and safely turn off a feature when finished are common in commercial and in-house softwar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y percent of the problems reported to commercial software vendors are of thi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D9F83-63DD-4B83-BB23-046A2461E91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 in describing the data used by the application are a major source of problems downstream during coding and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nor example of errors due to inadequate design of data elements can be seen in many programs that record addresses and telephon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sufficient space is reserved for nam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7D80A-5042-46D4-9C1F-8F5DFAFAE8C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s in describing data relationships are very common and a source of much trouble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09322-3782-4A2F-B16E-A0A882B99C3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the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oftware structures with convoluted control flow tend to have higher error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structural design is fairly common, and is often due to haste or poor training and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can measure cyclomatic and essential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on is often better than attempting to simplify an already complex softwar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CF8BF-F4E5-4B68-BC34-958DB5F682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ces or Concurrency of Exec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errors of speed and capacity have their origin in failing to design for optimum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errors are a result of complex control flow, excessive branching, or too many sequential processing (use parallel process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I/O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B9041-81A0-4543-93FF-9153E3EDA4E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desig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atible data types in messag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96D67-66DB-4556-AD94-46EE640CFEE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Eight Secondary Design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depend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depend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07D84-41A1-4D40-9D8B-B3784C54BBB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ing Desig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evaluate your design model and desig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esign inspections or formal technical reviews, which have proven to be the most valuable mechanism to improve quality of software ever, and especially for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software design by following design principles and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F544-A573-4A09-AC96-793F44B8344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Quality: Analysis and Guidelines for Success by Capers J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Engineering: A Practitioner’s Approach by Roger Pressman (Chapter 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Engineering Quality Practices by Ronald K. Kan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58C70-CEAD-4A05-BC41-A36E0800C65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s: plan, arrangement, lay out, map,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onyms: accident, fluke, chance, gu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is an activity of creating a solution that satisfies a specific goal or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is the backbone of all products and 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ed an artistic and heuristic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A7BF4-0C4F-4A81-816C-EAF57BFB216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Design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design is an artifact that represents a solution, showing its main features and behavior, and is the basis for implementing a program or collection of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F78F9-9B89-48DA-A7F9-3D6D18ED4A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Design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is a meaningful representation of something that is to be built.  It can be traced to a customer’s requirements and at the same time assessed for quality against a set of pre-defined criteria of “good” desig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2758A-13AB-4823-9E28-05FFDB7E22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Design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design is different from other forms of design because it is not constrained by physical objects, structures, or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result, software design tends to be much more complex than other forms of design because it is conceptually unbounded, whereas the capabilities of the human mind are bo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0F06-FF64-4648-913B-598C370ACE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Design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 are generally ill-defined and suffer from incomplete and inaccurate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seldom a predefined solution, although many solutions tend to satisfy the defined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0B772-2223-4A60-9970-2E85CAF602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Design -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able solutions usually require broad and interdisciplinary knowledge and skill, some of which is based on rapidly changing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often involve many components that have numerous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137FE-20DA-4F17-B942-BFDE228D15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7:13:44Z</dcterms:created>
  <dc:creator>Ghulam Ahmad Farrukh</dc:creator>
  <dc:description/>
  <dc:language>en-US</dc:language>
  <cp:lastModifiedBy>ahmadmohsin</cp:lastModifiedBy>
  <dcterms:modified xsi:type="dcterms:W3CDTF">2009-04-17T09:41:58Z</dcterms:modified>
  <cp:revision>75</cp:revision>
  <dc:subject/>
  <dc:title>Software Design and Quality Assurance</dc:title>
</cp:coreProperties>
</file>